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EE7F-C9C5-4123-A5DD-7D5330EA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D47-B9FB-4403-8204-733AEA0A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8C4-7D48-4040-AA5E-221F4A45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C23-6AE5-4770-A740-666F0B7E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B80-93CC-4722-A384-70231C70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D4C-8635-4283-9768-59052881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01D-8626-4CAF-85A3-CC9C30C9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6A9-8E5E-4E2F-9E3B-A3E82163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60C-D3A4-4028-A4B5-2159AEAB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592-F661-4672-90E0-4F921D9E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E63-A272-44A2-830F-CF0165D2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B8F-BE60-40C0-A541-27BE81B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E48-A199-4DC8-A526-89C262D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895-5FE6-4960-B09B-BBD96FA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C3D9-B6D6-4987-9B6F-BE10AEF9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anklin Gothic Heavy"/>
              </a:rPr>
              <a:t>Educational Technology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Enhancing education through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j"/>
          <p:cNvPicPr/>
          <p:nvPr/>
        </p:nvPicPr>
        <p:blipFill>
          <a:blip r:embed="rId3"/>
          <a:stretch/>
        </p:blipFill>
        <p:spPr>
          <a:xfrm>
            <a:off x="7467480" y="556272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ucational Technology i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eaching –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livery vehicle for instructional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rner learns from the technology and the technology serves as a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chnology is seen as a productivity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 Partners in the learning process (constructiv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 technology is a tool to learn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kes the learner gather, think, analyze, synthesize information and construct meaning with what technology pres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y serves as a medium in representing what the learner knows and what he/she is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. Educational Technology helps improve the teaching learning process thro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increasing the degree of learning or ma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4.  Learning is interactive thus learners are encourage to particip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technology in learning from the constructivist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 tools to support knowledg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 information vehicles for exploring knowledge to support learning-by-constru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s context to support learning by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 a social medium to support learning by conve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 intellectual partner to support learning-by-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What is Educational Technology all about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99436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fju"/>
          <p:cNvPicPr/>
          <p:nvPr/>
        </p:nvPicPr>
        <p:blipFill>
          <a:blip r:embed="rId2"/>
          <a:stretch/>
        </p:blipFill>
        <p:spPr>
          <a:xfrm>
            <a:off x="4419720" y="5410080"/>
            <a:ext cx="2933640" cy="8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jj"/>
          <p:cNvPicPr/>
          <p:nvPr/>
        </p:nvPicPr>
        <p:blipFill>
          <a:blip r:embed="rId3"/>
          <a:stretch/>
        </p:blipFill>
        <p:spPr>
          <a:xfrm>
            <a:off x="7670880" y="5537160"/>
            <a:ext cx="7617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Technology – is  a holistic  application of learning theories to enhance communication through the use of instructional tools to impact learning and its assessment to develop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technology in supporting learning pro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refers to how people utilize their inventions and discoveries to satisfy their needs and desires such as in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rely concerned with technology as It impacts upon the learning process such a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ing learn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ssessment and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jj"/>
          <p:cNvPicPr/>
          <p:nvPr/>
        </p:nvPicPr>
        <p:blipFill>
          <a:blip r:embed="rId3"/>
          <a:stretch/>
        </p:blipFill>
        <p:spPr>
          <a:xfrm>
            <a:off x="7518240" y="553716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application of scientific findings in our method, process or procedure or working in the field of education in order to affect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a field study and pro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mbraces curriculum and instructional design, learning environment and theories of teaching-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use of all human inventions for teachers to realize their mission to teach in order that students l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hases of 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114800" y="1295280"/>
            <a:ext cx="2209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733920" y="5029200"/>
            <a:ext cx="243828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2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chnology in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28600" y="1066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application  of technology to any of those processes involved in operating the institutions which house the educational enterpris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04920" y="27432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 includes the application of technology to food, health, finance, scheduling, grade, reporting, and other processes which support education within instit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04920" y="47008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he audio visual aids, software and hardware as learn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2:22:55Z</dcterms:created>
  <dc:creator>WL18</dc:creator>
  <dc:description/>
  <dc:language>en-US</dc:language>
  <cp:lastModifiedBy>msu-iit</cp:lastModifiedBy>
  <dcterms:modified xsi:type="dcterms:W3CDTF">2011-06-28T03:20:36Z</dcterms:modified>
  <cp:revision>15</cp:revision>
  <dc:subject/>
  <dc:title>Educational Technology</dc:title>
</cp:coreProperties>
</file>